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2.gif" ContentType="image/gif"/>
  <Override PartName="/ppt/media/image8.wmf" ContentType="image/x-wmf"/>
  <Override PartName="/ppt/media/image12.wmf" ContentType="image/x-wmf"/>
  <Override PartName="/ppt/media/image7.wmf" ContentType="image/x-wmf"/>
  <Override PartName="/ppt/media/image19.wmf" ContentType="image/x-wmf"/>
  <Override PartName="/ppt/media/image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5.wmf" ContentType="image/x-wmf"/>
  <Override PartName="/ppt/media/image10.wmf" ContentType="image/x-wmf"/>
  <Override PartName="/ppt/media/image4.wmf" ContentType="image/x-wmf"/>
  <Override PartName="/ppt/media/image6.wmf" ContentType="image/x-wmf"/>
  <Override PartName="/ppt/media/image11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07B3-26AE-4794-BF3D-693D36CA4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4631-78E5-4A71-8D23-ED395D64A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5480-5CE1-4A76-B1B6-4D66AEAFC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167E-54E6-47F2-B2ED-C92D2A79D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17625-5880-4320-85DA-BA24F0BCD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41F62-3CCF-439F-9C46-5362AE7CD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3126C-9969-408A-95C6-F11517818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3BA8E-D120-44B4-BAFE-25763DE66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32147-1055-4BD2-A58E-F62F7D074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C8EE0-926B-43BB-BF8B-4CCF2CDBF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A0F77-B13D-420B-82C0-70AC249D1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0C9B-02AD-4D81-9EA5-7ACB8AD32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28A4E-AE13-4CB2-855C-645C12B16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92204-C0A6-4A35-9A13-C7F95DABF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B3301-2367-45CA-BB17-26226B70B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6702E-229B-41FA-B3E6-2F0BBB7E4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607A0-2A52-4B0C-A1BB-25ECC21D2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C4FF-E34D-42D9-81F9-830A0E2B4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D6F1-A4F3-44F6-8B4F-748F7B627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B6A7-4CBA-4E67-94E3-1FCFCB148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16CE-9A1F-4F69-BC06-135CA0E72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F2B6-09E0-42D7-8FBD-7CEF8ABFB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50F9-3AD6-48FB-A0F5-E1187A545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3429-F6EA-4CF6-B0CC-1F09816ED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C4431-E2F5-40E4-85A6-513E32DC2F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37C68-98D9-40A1-B860-56C48935FA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41148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Reminder:  Tomorrow is Pi Day!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295280" y="533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te this express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2870280" y="1219320"/>
          <a:ext cx="215892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0280" y="1219320"/>
                    <a:ext cx="215892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685800" y="44956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533520" y="378000"/>
          <a:ext cx="1371600" cy="96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78000"/>
                    <a:ext cx="137160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3962520" y="301680"/>
          <a:ext cx="1295280" cy="1041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62520" y="301680"/>
                    <a:ext cx="129528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ccecff"/>
                </a:solidFill>
                <a:latin typeface="Arial"/>
              </a:rPr>
              <a:t>Lesson 9.2</a:t>
            </a:r>
            <a:endParaRPr b="0" lang="en-US" sz="75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Arithmetic Sequenc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1371600" y="243828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Sequence whose consecutive terms have a “common difference”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768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768" fill="hold"/>
                                        <p:tgtEl>
                                          <p:spTgt spid="2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" dur="768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" dur="768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190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 sequence is arithmetic if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</a:t>
            </a:r>
            <a:r>
              <a:rPr b="0" lang="en-US" sz="4000" spc="-1" strike="noStrike" baseline="-25000">
                <a:solidFill>
                  <a:srgbClr val="ccec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– A</a:t>
            </a:r>
            <a:r>
              <a:rPr b="0" lang="en-US" sz="4000" spc="-1" strike="noStrike" baseline="-25000">
                <a:solidFill>
                  <a:srgbClr val="ccecff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= A</a:t>
            </a:r>
            <a:r>
              <a:rPr b="0" lang="en-US" sz="4000" spc="-1" strike="noStrike" baseline="-25000">
                <a:solidFill>
                  <a:srgbClr val="ccecff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– A</a:t>
            </a:r>
            <a:r>
              <a:rPr b="0" lang="en-US" sz="4000" spc="-1" strike="noStrike" baseline="-25000">
                <a:solidFill>
                  <a:srgbClr val="ccec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= … = d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ere d is the common differenc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Is each sequence arithmetic?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If so, find “d”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4, 9, 14, 19, 24, …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3.5, 4.4, 5.3, 6.1, …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20, 15, 10, 5, 0, …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8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he n</a:t>
            </a:r>
            <a:r>
              <a:rPr b="0" lang="en-US" sz="4000" spc="-1" strike="noStrike" baseline="30000">
                <a:solidFill>
                  <a:srgbClr val="ccec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term of an arithmetic sequence is in the form</a:t>
            </a:r>
            <a:br>
              <a:rPr sz="4000"/>
            </a:br>
            <a:r>
              <a:rPr b="1" lang="en-US" sz="5500" spc="-1" strike="noStrike">
                <a:solidFill>
                  <a:srgbClr val="ccecff"/>
                </a:solidFill>
                <a:latin typeface="Arial"/>
              </a:rPr>
              <a:t>A</a:t>
            </a:r>
            <a:r>
              <a:rPr b="1" lang="en-US" sz="5500" spc="-1" strike="noStrike" baseline="-25000">
                <a:solidFill>
                  <a:srgbClr val="ccecff"/>
                </a:solidFill>
                <a:latin typeface="Arial"/>
              </a:rPr>
              <a:t>n</a:t>
            </a:r>
            <a:r>
              <a:rPr b="1" lang="en-US" sz="5500" spc="-1" strike="noStrike">
                <a:solidFill>
                  <a:srgbClr val="ccecff"/>
                </a:solidFill>
                <a:latin typeface="Arial"/>
              </a:rPr>
              <a:t> = dn + c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ere c = A</a:t>
            </a:r>
            <a:r>
              <a:rPr b="0" lang="en-US" sz="4000" spc="-1" strike="noStrike" baseline="-25000">
                <a:solidFill>
                  <a:srgbClr val="ccecff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– d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OR</a:t>
            </a:r>
            <a:br>
              <a:rPr sz="4000"/>
            </a:br>
            <a:r>
              <a:rPr b="1" lang="en-US" sz="5500" spc="-1" strike="noStrike">
                <a:solidFill>
                  <a:srgbClr val="ccecff"/>
                </a:solidFill>
                <a:latin typeface="Arial"/>
              </a:rPr>
              <a:t>A</a:t>
            </a:r>
            <a:r>
              <a:rPr b="1" lang="en-US" sz="5500" spc="-1" strike="noStrike" baseline="-25000">
                <a:solidFill>
                  <a:srgbClr val="ccecff"/>
                </a:solidFill>
                <a:latin typeface="Arial"/>
              </a:rPr>
              <a:t>n</a:t>
            </a:r>
            <a:r>
              <a:rPr b="1" lang="en-US" sz="5500" spc="-1" strike="noStrike">
                <a:solidFill>
                  <a:srgbClr val="ccecff"/>
                </a:solidFill>
                <a:latin typeface="Arial"/>
              </a:rPr>
              <a:t> = A</a:t>
            </a:r>
            <a:r>
              <a:rPr b="1" lang="en-US" sz="5500" spc="-1" strike="noStrike" baseline="-25000">
                <a:solidFill>
                  <a:srgbClr val="ccecff"/>
                </a:solidFill>
                <a:latin typeface="Arial"/>
              </a:rPr>
              <a:t>1</a:t>
            </a:r>
            <a:r>
              <a:rPr b="1" lang="en-US" sz="5500" spc="-1" strike="noStrike">
                <a:solidFill>
                  <a:srgbClr val="ccecff"/>
                </a:solidFill>
                <a:latin typeface="Arial"/>
              </a:rPr>
              <a:t> + (n – 1)d</a:t>
            </a:r>
            <a:endParaRPr b="0" lang="en-US" sz="55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rite an expression for A</a:t>
            </a:r>
            <a:r>
              <a:rPr b="0" lang="en-US" sz="4000" spc="-1" strike="noStrike" baseline="-25000">
                <a:solidFill>
                  <a:srgbClr val="ccecff"/>
                </a:solidFill>
                <a:latin typeface="Arial"/>
              </a:rPr>
              <a:t>n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for an arithmetic sequence where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</a:t>
            </a:r>
            <a:r>
              <a:rPr b="0" lang="en-US" sz="4000" spc="-1" strike="noStrike" baseline="-25000">
                <a:solidFill>
                  <a:srgbClr val="ccecff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= 15 and A</a:t>
            </a:r>
            <a:r>
              <a:rPr b="0" lang="en-US" sz="4000" spc="-1" strike="noStrike" baseline="-25000">
                <a:solidFill>
                  <a:srgbClr val="ccec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= 18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rite the first three terms.  Find their common difference.  Write a sequence formula for the n</a:t>
            </a:r>
            <a:r>
              <a:rPr b="0" lang="en-US" sz="4000" spc="-1" strike="noStrike" baseline="30000">
                <a:solidFill>
                  <a:srgbClr val="ccecff"/>
                </a:solidFill>
                <a:latin typeface="Arial"/>
              </a:rPr>
              <a:t>th 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erm.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</a:t>
            </a:r>
            <a:r>
              <a:rPr b="0" lang="en-US" sz="4000" spc="-1" strike="noStrike" baseline="-25000">
                <a:solidFill>
                  <a:srgbClr val="ccecff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= 200; A</a:t>
            </a:r>
            <a:r>
              <a:rPr b="0" lang="en-US" sz="4000" spc="-1" strike="noStrike" baseline="-25000">
                <a:solidFill>
                  <a:srgbClr val="ccecff"/>
                </a:solidFill>
                <a:latin typeface="Arial"/>
              </a:rPr>
              <a:t>k+1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= A</a:t>
            </a:r>
            <a:r>
              <a:rPr b="0" lang="en-US" sz="4000" spc="-1" strike="noStrike" baseline="-25000">
                <a:solidFill>
                  <a:srgbClr val="ccecff"/>
                </a:solidFill>
                <a:latin typeface="Arial"/>
              </a:rPr>
              <a:t>k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- 20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rite an expression for the n</a:t>
            </a:r>
            <a:r>
              <a:rPr b="0" lang="en-US" sz="4000" spc="-1" strike="noStrike" baseline="30000">
                <a:solidFill>
                  <a:srgbClr val="ccec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term: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</a:t>
            </a:r>
            <a:r>
              <a:rPr b="0" lang="en-US" sz="4000" spc="-1" strike="noStrike" baseline="-25000">
                <a:solidFill>
                  <a:srgbClr val="ccecff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= 7 and A</a:t>
            </a:r>
            <a:r>
              <a:rPr b="0" lang="en-US" sz="4000" spc="-1" strike="noStrike" baseline="-25000">
                <a:solidFill>
                  <a:srgbClr val="ccecff"/>
                </a:solidFill>
                <a:latin typeface="Arial"/>
              </a:rPr>
              <a:t>8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= 27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ind the missing arithmetic term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45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 = 3, A</a:t>
            </a:r>
            <a:r>
              <a:rPr b="0" lang="en-US" sz="45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 = 13, A</a:t>
            </a:r>
            <a:r>
              <a:rPr b="0" lang="en-US" sz="4500" spc="-1" strike="noStrike" baseline="-25000">
                <a:solidFill>
                  <a:srgbClr val="ffffff"/>
                </a:solidFill>
                <a:latin typeface="Arial"/>
              </a:rPr>
              <a:t>9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 = ?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45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 = -1, A</a:t>
            </a:r>
            <a:r>
              <a:rPr b="0" lang="en-US" sz="45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 = -10, A</a:t>
            </a:r>
            <a:r>
              <a:rPr b="0" lang="en-US" sz="4500" spc="-1" strike="noStrike" baseline="-25000">
                <a:solidFill>
                  <a:srgbClr val="ffffff"/>
                </a:solidFill>
                <a:latin typeface="Arial"/>
              </a:rPr>
              <a:t>25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 = ?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768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7" dur="768" fill="hold"/>
                                        <p:tgtEl>
                                          <p:spTgt spid="2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9" dur="768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1" dur="768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2057400" y="182880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Homework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heck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push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ccecff"/>
                </a:solidFill>
                <a:latin typeface="Arial"/>
              </a:rPr>
              <a:t>Homework:</a:t>
            </a:r>
            <a:br>
              <a:rPr sz="7500"/>
            </a:br>
            <a:r>
              <a:rPr b="0" lang="en-US" sz="7500" spc="-1" strike="noStrike">
                <a:solidFill>
                  <a:srgbClr val="ccecff"/>
                </a:solidFill>
                <a:latin typeface="Arial"/>
              </a:rPr>
              <a:t>Page 635</a:t>
            </a:r>
            <a:br>
              <a:rPr sz="7500"/>
            </a:br>
            <a:r>
              <a:rPr b="0" lang="en-US" sz="7500" spc="-1" strike="noStrike">
                <a:solidFill>
                  <a:srgbClr val="ccecff"/>
                </a:solidFill>
                <a:latin typeface="Arial"/>
              </a:rPr>
              <a:t>#1-13, 17, 21-25, 29-39</a:t>
            </a:r>
            <a:endParaRPr b="0" lang="en-US" sz="75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Questions from homework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3500" spc="-1" strike="noStrike">
                <a:solidFill>
                  <a:srgbClr val="ccecff"/>
                </a:solidFill>
                <a:latin typeface="Arial"/>
              </a:rPr>
              <a:t>Worksheet</a:t>
            </a:r>
            <a:endParaRPr b="0" lang="en-US" sz="3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685800" y="1828800"/>
          <a:ext cx="1295280" cy="107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28800"/>
                    <a:ext cx="1295280" cy="107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3352680" y="1905120"/>
          <a:ext cx="1143000" cy="10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2680" y="1905120"/>
                    <a:ext cx="114300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6477120" y="1981080"/>
          <a:ext cx="1066680" cy="825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77120" y="1981080"/>
                    <a:ext cx="106668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           ;  a8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1295280" y="1600200"/>
          <a:ext cx="1143000" cy="88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600200"/>
                    <a:ext cx="1143000" cy="88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685800" y="609480"/>
          <a:ext cx="1066680" cy="52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09480"/>
                    <a:ext cx="10666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1981080" y="457200"/>
          <a:ext cx="1371600" cy="79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457200"/>
                    <a:ext cx="137160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609480" y="3162240"/>
          <a:ext cx="990720" cy="495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480" y="3162240"/>
                    <a:ext cx="99072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1981080" y="3124080"/>
          <a:ext cx="1676520" cy="536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81080" y="3124080"/>
                    <a:ext cx="1676520" cy="5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,3,5,7,9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914400" y="2133720"/>
          <a:ext cx="4114800" cy="85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133720"/>
                    <a:ext cx="411480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609480" y="380880"/>
          <a:ext cx="951120" cy="100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95112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4191120" y="304920"/>
          <a:ext cx="1371600" cy="106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91120" y="304920"/>
                    <a:ext cx="1371600" cy="10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609480" y="457200"/>
          <a:ext cx="1295640" cy="89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57200"/>
                    <a:ext cx="1295640" cy="89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4724280" y="304920"/>
          <a:ext cx="900360" cy="120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304920"/>
                    <a:ext cx="900360" cy="12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4</a:t>
            </a:r>
            <a:r>
              <a:rPr b="0" lang="en-US" sz="4400" spc="-1" strike="noStrike" baseline="30000">
                <a:solidFill>
                  <a:srgbClr val="ccecff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partial su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artial s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457200" y="380880"/>
          <a:ext cx="1295280" cy="10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0880"/>
                    <a:ext cx="1295280" cy="10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609480" y="2909880"/>
          <a:ext cx="1219320" cy="795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2909880"/>
                    <a:ext cx="1219320" cy="7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5T12:29:00Z</dcterms:created>
  <dc:creator>jnewman</dc:creator>
  <dc:description/>
  <dc:language>en-US</dc:language>
  <cp:lastModifiedBy>abeason</cp:lastModifiedBy>
  <dcterms:modified xsi:type="dcterms:W3CDTF">2009-03-12T13:39:11Z</dcterms:modified>
  <cp:revision>8</cp:revision>
  <dc:subject/>
  <dc:title>Lesson 9.2</dc:title>
</cp:coreProperties>
</file>